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371-A114-4CE3-9F7A-860D8B40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565-0F42-4C78-8CDA-66194367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F99-AB00-4F73-99B3-B3756A96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7F9-4182-4603-90F5-1C6BE8D8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2AB-B6A3-452F-8522-BB7D9F6A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944-7AA5-405F-A3C5-F895F873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3F7-4D24-4B6F-9318-39C06BB0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78D-2BBA-4CA5-9C67-FF147C53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87B-7498-4BB1-AD18-368E209B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C7A-56F6-4852-BADA-447A3BCB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65D-6C74-452B-A5F7-F927FA01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825-86C7-4AEF-A15E-65A1F19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1248-9630-4652-85AC-00ABEFCE427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4 Chcem teba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teba, Pan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ac mil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rúcnejšej lásky da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ráč m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duše studenej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šenie, radosť vl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ju rozohrej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lásky via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hriešnych radostia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žieval s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už len tvojím by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dieťať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mi víťaz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voju chválu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e ťa velebi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lásky via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rídu staros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ápenie, žia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sa vždy spokoj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tým, čo s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ieru pev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 sa utiek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om mnou, Pan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lásky viac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09:41Z</dcterms:modified>
  <cp:revision>17</cp:revision>
  <dc:subject/>
  <dc:title>Je veľký náš Pán, on slávy je Kráľ Nech do všetkých strán  spev vrúcnych znie chvál.</dc:title>
</cp:coreProperties>
</file>